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8E4-9BF0-487E-ABC0-7BD08C60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604-293F-435F-A193-DF73577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95C00-3ECC-4442-90D1-8BD4E2F7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E142A-0E6E-4E87-8A3C-64A5796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1B090-DABF-460F-86AD-B45E470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A76F7-819F-4B23-9B67-4666539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3FDB5-EA09-42D1-A10E-589EEB1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F6033-EA03-4308-A700-E974479B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33622-A9B9-45B2-998B-D541CB31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7559-4F5B-486E-8D3F-E1439AE3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D7E54-7319-4A18-B17D-DC98ECC5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310A6-8DB3-4F07-87C1-C44D3A3A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C4C-0747-439F-B6BA-5D84064C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40456-A801-4703-9669-C5256832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125FD-3C53-480D-A0E1-5CC8973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AF5DE-66B9-4A08-9C16-2DC73EB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8D9E7-4281-4935-8B7B-E980828A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B9695-9A2A-42F3-A95B-79104151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ED184-5740-4321-8EB0-5265130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9F71C-B884-4FBB-B383-D0DD634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9D61E-4238-4239-9C45-6D27B51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D8B4F-FF9B-4415-BD37-1999E03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F45A1-5684-4CF3-B00D-00913621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9DC-647A-4FD0-81AB-4DB0B7DE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1A1B9-275D-4B87-8EAF-E9A3DABF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29531-2A38-4E22-805F-847247A0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B7587-80FE-46D5-8400-85C3738D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5476E-C869-4FD6-8B6F-9A3230A5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537F0-8A0C-4477-94DF-2FB5C6A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899B3-CDCD-458C-AFCF-38D94A3C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127F-1A3C-4A5D-B2D0-40AC039E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969D-79D3-4CC4-8838-43176578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538EB-A805-4121-9C07-91662BE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602E-D366-46EE-B84B-03901D6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C39A-7BE2-4A1C-BBF7-4C190963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5F7B-FB5A-4DFE-B1CD-60FF827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35BCF-FC6E-4ADC-B774-9CBB2CAC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9951-5302-47C7-9CA2-21AD9323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019EE-21C6-4515-AB94-672E81D5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CBFC-DA01-4B7C-9575-3747520A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A446-C4E4-4EB4-ABF4-B01F6B6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1BAFA-B319-4E83-AC3A-5439F70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A72E2-F53A-4E4C-922C-DF63F0F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67680-4117-42EA-A3C2-96557F0C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633C6-0061-481D-85A8-883CD29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4E2-BF75-4892-9DAA-B0B8B8C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00908-F819-4034-AD0B-CFE6FF1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7AC18-35CE-4F16-8125-BAE907F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2039F-63FD-49E6-83E8-1E69A3E5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449F2-23FF-4255-AF24-E7BC4A1B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DEC85-7A5B-4AF6-BEB1-9B5A1C36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ABDA7-AFED-4369-BA35-1AE80CED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982D4-DE3A-4CAE-B5F6-4D8AC4D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3547A-D3F7-4291-9922-3ABE6865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F907C-D0B8-4137-B042-E365E220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25F30-C8D2-412D-A5D8-38E00AF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5B77-6CB4-4271-A431-A0CCD80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EC5A0-B491-47C7-B1DC-322BB46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C0761-1424-449B-9C1B-D778C022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52A76-620E-4B70-BD52-E513DD49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E925D-EDDF-413A-A082-1E074253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1567C-EAEA-4F6F-AB0B-693591A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7CDA8-3796-434C-AE89-E07483E4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7E357-4E8F-4CB8-8EFA-308FF963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17CF7-81D1-4312-80D4-B3DAB2E3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C78C-F670-4BF3-A90C-86E55DC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CF2BF-14B8-4450-955E-A4382390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FCB-187E-4405-9B0D-FBBA538F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CCF56-E528-4D5F-8C71-1EA4DF96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68D43-1A40-4AF5-B1C6-19E8D3D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6D5BA-4AD7-46D4-A7D3-4EFFB34F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2D59B-9EEE-4B02-939A-2DFE770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1FBA2-F305-4BB2-9B9B-BDCBAA4A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64AEA-A651-4EAB-A5A6-C6DF8F5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24D4D-028E-44C2-9F83-DAA756E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B5F5C-7E1B-4633-B8D5-FED45EA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47BB1-5399-43B7-881B-21BA37EC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AD802-0E39-43C4-8B85-A0BCD5C5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CCD3-8F00-4C44-8FEC-F1434723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B4F33-0932-4319-AB0F-65CE7623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CC512-30E0-4860-AB25-51DE0B8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7E6E3-2781-4383-8CFC-CC03C80B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CFE5C-EEDA-44DC-AA42-0792E53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85AC1-FCE4-469C-B4EA-7BE05F1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050FE-5343-4479-A0A7-9FECFE4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5CFA8-CA50-4236-8590-A0BE258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2C3A2-7EE8-4273-AC3A-8601B65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EBBFF-1DEC-4012-A0CE-1E6668B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57508-E63D-4960-ACD2-E79BD917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0DC1-094E-4FB7-B7C9-F442393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6C730-99C5-4114-8DCD-FE411FED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DDB20-6C71-4877-A4DC-94E5C3F8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F0B8C-5552-4DCD-9175-3764A03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1133C-5C68-4FB6-B08A-78A02DB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F6D97-E2F9-4A91-81D3-4644E8F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440AA-5B1C-492A-9794-CF81606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52795-6C3E-45C5-A519-E6253D6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307D2-485A-4106-8CC7-3889FBA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3FFA2-88B8-49DA-9406-F1CD46C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60AFC-CD5E-45FA-A9E4-9E6653C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AF69-881D-4C63-9214-459DB92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9D6C1-23EF-4A16-912C-C7804FE0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5892F-8A6B-43F8-BB54-049BC04F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4B2FC-D913-4684-AF57-A8A37D45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93290-63EE-4045-A7ED-048443F6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4CE6F-DE0B-4461-A43C-96F6ED25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59260-BC34-4BD7-98DC-60F2ACF5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AF462-C488-461F-9FDD-15A0054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8370B-D3A7-42B1-BD00-F501A1C8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A9137-77AD-470A-BB18-163888D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105D8-A204-41EC-AFB4-8229E79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667-6FDF-4E58-849E-22C057A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52F-CA5A-4EB7-8307-AC922C0B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73695-C389-4E98-B65D-3C51E13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2A99F-8687-468A-BD4E-59DFDE2B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2B94F-F8CF-478D-9A90-DF533FC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45DC1-3F7E-4E47-BE69-AE24B3C7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0104F-6385-4AE4-A017-2B3013C0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66182-C8ED-4A00-8EB3-CC20EFB3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834FB-42DD-44C2-9090-2F856A0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F3C83-E88B-4A2D-A8D3-962A0722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33698-13BB-4468-9686-FD9ABBE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32118-F6A9-499E-A5B9-7F348228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74B6-F3C5-4C82-9862-9A47DA7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61363-BD35-418A-BB73-5956A200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43DE1-4022-40BB-A2D8-B336140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0DC18-91F7-47C9-8736-DBBEFB2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CBA45-7D98-4A14-B452-38B3471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307C0E-2955-4CC7-A021-CAC9B34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1A3A5-E0A6-4B9C-B965-A9379BC4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82605-1E74-4EFE-B270-1CF0C80E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FA1D9-8792-46E8-AFFB-0CDE1748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33739-6323-41FF-A9E5-F4BA650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06A20-2523-4A02-9B3C-E42900C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617-445C-474C-90FA-ADC6830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8100A-23D1-49D7-B07E-72DA063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1F74E-9332-4AD6-9C32-6D759E4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0AEC0-D114-4169-BFCB-571C0495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0E675-F9B1-4B9A-80FA-446973D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71F6E-81E7-4B70-8AE7-DE1CFBE7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3AB39-5E27-4C25-B91B-A996F1F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DE29A-48A2-48A1-AB70-705D9F1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4F49E-3DE6-44C6-8D3B-36096E02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EE38B-E05C-4549-9D27-860E9528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1B77E-68BE-4399-BCC4-0BA5E970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B86-7DA2-4E26-8C3C-B305FC07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EB6ED-ABAC-4C46-8DF3-42F33CB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AD34E-F2EE-4243-AF7F-886FAD4C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CA60A-1AA9-4A15-9D72-0BDA4623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8A301-3957-44F1-982C-A13D2E68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3177B-022F-449F-B7F2-B28B87B4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9965F-B0C5-4DA4-B1AC-261C3123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C0CFC-FAC2-4D88-8C39-2E32DB6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2B595-87E5-4D67-9CF0-3305E4A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97A0C-0ED3-4D67-855A-018AB2A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F6AD0-967E-4859-8685-2A84B24F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FD2-A751-4388-878E-551CC1C7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11CDAC-E919-4C32-9A2B-41A32324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B59FD-BBC9-4700-8687-A7089CF9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6E061-4DA9-42FC-BAB9-70EA84F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1B604-D430-4B3E-8375-EC9A8F4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7430B-EA00-4ADC-A705-1612ADB7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4E204-38CD-4B00-9CA4-80FEC94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003F9-0E6B-4A31-A184-F106334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9C3DE-0863-43EA-8CF8-38F1008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D4449-9987-4FB2-9820-8186401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D4D8D-C581-4783-B418-EA04410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4A4A-3F51-4A4F-BF4C-5326107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2CED8-9FEF-48DB-B2A5-D1A9E59D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9D6DD-B02E-44D1-8532-A91DFD5A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6A185-3A8F-4CE8-B8D7-67204605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CCEA-A1F0-4922-BD6D-B6A11AA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43C0-15A5-475D-A14D-CFDCE60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7F83-8FC3-44A4-9792-8355EBD9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C92B-B1E9-416E-ACEC-08C50FFB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069-7E72-40ED-AA54-89529C3A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DBE6-720B-4BF0-9DF5-3B30107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9EEE-A880-4653-A44B-65711745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2FD4-6FE1-41A8-93BE-0407D8A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CAA9-F9B8-4779-BA61-C913C8B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9EB4-4933-4F27-ACBF-C9EA96D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22CF-8E4A-420D-9A0F-AEDB9283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83D4-7E2E-4D77-ACCB-012DE65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D8B3-02D1-47DD-B698-9DC43B51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8453-673E-4C56-8A78-BDFB1D0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CFDB-5832-4E6A-91A1-F1A0E17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2E3-B701-457A-A301-681113C7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AD2B-A3BA-4EAE-9983-547C4DBC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7766-AD5A-49F8-B952-126F235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55F4-3146-4BF7-916B-CD533AA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510C-A2CF-402C-8F36-372B3C3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CBD4-41EC-4503-856D-CAA1EB3B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744C-4522-4032-8D45-D4BB5A3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F836-C34C-4B61-A846-3ED90CF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5D25-D0D4-497B-9124-E9F9B757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435E-42FC-4338-9423-19D1576E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D808-8924-4153-97C3-97792DEF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99A-A856-44D9-B0BB-15CC878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E13C-3E0A-4703-B3C2-D504983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BCAB-7045-4466-8F90-227D127A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4949-9195-4FE9-B126-744AF61B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D6E9-638A-402D-9707-69F7202E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1494-6C60-49CA-B540-436134A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3A87-C4E3-423E-A9F1-2FCA634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7EBF-25CB-436F-9AEB-709F820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E3C5-3377-4E6B-A401-833CD2C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E2BA-FC28-4BEC-A732-ED00089A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DAC1-A3A7-4D77-BF23-03CA8509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4A1-311F-4BB5-8945-D9C4420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34AA3-65AA-44CB-995D-935E3588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4124-9243-4CF2-9F34-0FC5124B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5CF9-6B35-405B-90EC-4BEFC7F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1AF8-65BC-4066-B400-1E1EC87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8371-4E62-4851-8E5B-7315A74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02E1-65E7-4468-98BE-C480195C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2E92-2122-45A3-B874-315EF231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E77A-2D9E-48C5-92EE-BEBB56A2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E3A7-34EF-4163-915A-8045E36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32D3-FA64-476A-8D15-A675D36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633-10EC-4297-9A7F-6C0AEB9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D9F9E-0381-484B-9D0A-1864FA9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3640-3721-456C-A0B3-C6366A65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A2DE9-36FC-41C2-BEC6-5373642E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86FE-6768-43EE-AA01-2EF03C63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7350-A4D1-4F4D-BFA0-C0ED290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B86B-B76C-4BF9-92C0-F3D6D771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6CE53-7084-4899-B159-D24D142E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864EF-4233-4191-8108-916366A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9765-E81B-491E-A9A6-180BDDD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E470-88A0-4F6A-8558-295BD54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6BC-A52C-4AC9-83C0-ED34535E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93D8-3A90-4906-B93E-14A0790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4432-F44A-425A-B3A9-1D6E5DC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2022-6FD5-4316-BAD6-83AA8F49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58D0-C5D4-4F69-ADF7-4886C41B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FD364-2DB8-4C19-8F3A-94E477FA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D45C-A94E-4005-A09A-B4D4B069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BBD1-F37A-47F1-A3BE-EDF7AE4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D1A5-13F8-4A90-8A43-084212A4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E522-E79A-4A20-93C6-CDEF78FF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6CAB-842D-4C70-BE11-A9793018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F07-CC2A-417C-BB3F-93ACC0F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45C4-047F-4D57-AFDB-F7CEC10F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074FC-AA27-41A9-9763-90EB8D8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53BF8-E262-48DB-AE02-39EE182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9C325-B344-4AEC-8768-9E51346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32FEB-304A-4746-81AC-F6562A7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20D59-953E-45CE-AEE4-E0F5B244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31F02-E52C-46FF-BF2A-C586DCE9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E5C7A-1A3B-4CEE-8DC4-8E400D2A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5FBF7-9725-45CB-B0B9-2E49BA3A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7EDC0-300B-4ADB-B573-B17A7985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6E55-D21A-4CEC-86E0-1DD500B588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8BF4-D8B4-44F5-AFD6-E90EB6DE1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2BE-263B-484C-9A59-DF0B49A6E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A5F-709A-4A0F-A580-50660CCC7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77B-5449-45B7-92F3-C9CAFF9911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0C4-DA0E-41C6-B8F0-69E697DF8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991-82B3-4DB7-B220-AF24192CC5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9C0-EE28-499B-8473-02274A57F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7F31-30AE-42FC-9F9A-19ADCB420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7C4B-E0E2-4BAE-A8CA-3748C65C1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9761-C7F8-4B2E-8A47-E5242ACA6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8B3-AC02-47F5-8AC8-C92F98C221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069-62BD-4B90-A1A9-D80D10982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9C7-0E94-4629-B23A-92DEC6F5F1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071F-319F-4039-B4C8-F5E4E2B55D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7E69-E44F-4B70-95B6-0777952DA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C50-0EAE-4534-95B0-333E1A520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B0BC-E236-4F2F-9785-F2E37D123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B98-5AD2-4053-879A-28D32149C6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1170-0D3B-4A92-81A3-D933AE0B0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87C-B417-412D-B702-DA6A69C4E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D17-F52D-478C-9E66-879AE4654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45FF-62D4-4699-8E6B-4CB9DAA29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1EE-A138-47FD-ABE4-D1CF76D4D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A084-3841-463A-B1C1-1CD40FF3C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FAE-6BCB-4312-94E2-BA0D72CD9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10D1-1D8B-4903-9294-6DB6879BC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7D2-A167-4ECB-B995-8B26F0F61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07D-0A7A-4555-B044-F7AC4EAEA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546-7242-4CD4-9CCA-C6D79328E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DA0-17F7-4D91-8F78-70A0E9AB0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E16C-F115-49EF-A831-F08CB1B26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6A0-9812-4BE3-A143-50AA5EB4DA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D15-DB00-4778-BB39-0A718F10F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6BF-68B2-4F94-8FF1-AD24E0CF2F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C8D-0651-4139-9AE9-C511782453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E7D-28B5-462D-AA53-13A1534D7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4FEC-614A-4F9F-8575-3F6FD5303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6F1-4D55-4CE4-8E7C-807BCF0B9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C9B3-211C-4D19-92BA-D55BC43C4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3133800"/>
            <a:ext cx="8364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262160"/>
            <a:ext cx="86104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81040" y="1500120"/>
            <a:ext cx="7981920" cy="3857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27672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42764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651640" y="318456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093080" y="314172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835280" y="388944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327672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42764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651640" y="393228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7093080" y="38894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835280" y="462456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3276720" y="46245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4427640" y="46245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5651640" y="466740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7093080" y="4624560"/>
            <a:ext cx="8636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609480" y="619200"/>
            <a:ext cx="7925040" cy="5619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1873440" cy="4982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284720" y="3170160"/>
            <a:ext cx="208764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140360" y="3687840"/>
            <a:ext cx="1368360" cy="498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508720" y="4998960"/>
            <a:ext cx="2519280" cy="498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2612880" y="5516640"/>
            <a:ext cx="792360" cy="4982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6531120" y="5516640"/>
            <a:ext cx="11509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419040" y="738360"/>
            <a:ext cx="8305920" cy="5381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284720" y="2205000"/>
            <a:ext cx="478800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3995640" y="4869000"/>
            <a:ext cx="4788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048800" cy="278136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6325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677080" cy="28382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4140360" y="2003400"/>
            <a:ext cx="403200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55640" y="5243400"/>
            <a:ext cx="6769080" cy="498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755640" y="5905440"/>
            <a:ext cx="6769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290520" y="1290600"/>
            <a:ext cx="8562960" cy="42768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5688000" cy="498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755640" y="4927680"/>
            <a:ext cx="5688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37960" y="719280"/>
            <a:ext cx="8668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514440" y="2147760"/>
            <a:ext cx="8115120" cy="2562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324000" y="2117880"/>
            <a:ext cx="4608360" cy="49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46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842472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8424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19:0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